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C285-9769-4B8A-97AB-E8A21E5D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E51-0349-4AAC-BB94-425B1460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D36-2C20-48B1-93B2-FF34267A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8DA-7E3F-4AEC-A68A-1E7D1CBB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6396-348A-4BC9-86EF-8E071989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384D-4ADA-44C6-ACB4-973A4B5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AFF1-F7CF-46D8-AACA-A268F4B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F433-F1B0-4F03-B2AD-C65E1FD5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3260-A152-45C4-B05C-A4D6FDA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5AE-342C-4382-9A32-8A05F1D3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4B2B-CA6F-4480-857D-745D0019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2E3-F306-498E-A223-412439A6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11E7-93BB-4394-8481-3D70759D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567-BC22-46FB-AE7E-1365DB7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8FB-C261-4EAE-A427-EA2A05EB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B64A-0D6A-44FC-B036-984C5262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FFFF-36CC-4D76-A2AA-47FFDA5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849-3174-45E7-BA61-F0C2268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746-2BE8-4E0D-A7E6-A20FBAB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D07-F991-4E60-8978-4680CCDD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F05-9856-45C7-A027-1FED4D7D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666-FDBC-48F9-ADE9-37A1FD12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FBB-75E0-4E6E-A974-741D8A6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8E8-E0F8-4FEB-9B3C-9A5DC87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E8A3-2260-4EBD-9765-15BDD2A99FC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F5A-F6B5-4293-9536-E0676CD970BD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Student on Grade Level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57440" y="1981080"/>
            <a:ext cx="40276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PEP for Students</a:t>
            </a:r>
            <a:br>
              <a:rPr sz="4000"/>
            </a:br>
            <a:r>
              <a:rPr b="1" lang="en-US" sz="4000" spc="-1" strike="noStrike">
                <a:solidFill>
                  <a:srgbClr val="fdfdfd"/>
                </a:solidFill>
                <a:latin typeface="Arial"/>
              </a:rPr>
              <a:t>Instructionally on Grade Level</a:t>
            </a:r>
            <a:endParaRPr b="1" lang="en-US" sz="4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for the 2010-2011 School Year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To address students who are instructionally on grade level, but did not demonstrate proficiency on EOG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ust identified how the student was assessed to demonstrate s/he is instructionally on grade level, as well as what will be used to continue monitoring the student to make sure s/he remains instructionally on grade level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0:31Z</dcterms:created>
  <dc:creator>Chatham County Schools</dc:creator>
  <dc:description/>
  <dc:language>en-US</dc:language>
  <cp:lastModifiedBy>Chatham County Schools</cp:lastModifiedBy>
  <dcterms:modified xsi:type="dcterms:W3CDTF">2010-06-17T23:51:09Z</dcterms:modified>
  <cp:revision>1</cp:revision>
  <dc:subject/>
  <dc:title>Student on Grade Level</dc:title>
</cp:coreProperties>
</file>